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4A2-00E6-4032-A181-8CFC28A5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BCD-128B-4AB9-8234-FD583206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3B0-DAB5-495B-A35E-2E477A60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32F-FA31-4B32-A088-7DBD3EC8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ADF-89A3-4690-BDCE-8CB354F5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4E6-AAC7-4390-B9F2-90811CA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9173-DC68-4176-A194-8AE3E5D6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34B1-BF92-4BA0-9C5F-284FBB4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BFC1-7925-45E7-BE55-F4E8DC47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43C6-C66F-4775-BDB8-D1E0E3D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3B31-2D19-4780-93F0-C654908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B31-64A1-41C7-8B55-FA0769AE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0FB-695C-4734-898F-DF30DB0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EEB-A638-4A3C-BDCE-BA393A7F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0406-819C-4E7B-9EF6-5E8490C5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6F4C-DFC3-416D-A82A-66883E40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5AD9-26AC-4846-A380-21361A7B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352-EBB3-4C47-8D45-5328ABC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073-9C98-4CDF-8A43-EEF2CFC8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587-EABB-4A40-ACEE-621F643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853-C8FD-41D7-8151-E80DE05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2A1-FDA4-4424-97C2-A919037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825-7394-4F76-87D8-3E5B58B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BA7-440C-44B7-84AE-DAAE58A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F62C-CB8C-44CE-802A-71D2705B04B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A8F-ADF8-4A2A-8697-A3E35803C95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ahoma"/>
              </a:rPr>
              <a:t>E.O.C Exam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ustainable Use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Using a resource in a way to make it las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Education of and care for coral reef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Pesticide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hemicals farmers use to kill unwanted organisms (weeds &amp; insects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Runoff (DDT &amp; magnification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ditional Vocabular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Niche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Predator/prey relationships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Community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Limiting factors (dependent vs. ind.)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Stewardship 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Food Web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6200" y="426708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3040" y="312408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owl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41148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920" y="51814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grasshopper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4480" y="34290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6560" y="41911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cow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nergy Pyramid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43912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itrogen Cycle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61840"/>
            <a:ext cx="91440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arbon Cycle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228600" y="100080"/>
            <a:ext cx="93726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Population Growth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-44280"/>
            <a:ext cx="79250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.O.C. Survival Gu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itle Pag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ips/Strateg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Drawing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20 Key Term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iotic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Living factor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nimals, plants, competi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biotic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onliving factor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torms, stress, space, etc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utualism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wo organisms help each other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nts and acacia tre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Gobe fish and shrim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mmensalism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one organism benefits while the other is neither helped nor harmed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lown fish and sea anemon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cosystem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ll of the living and nonliving things in an area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ll interact with one another!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arrying Capacity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umber of individuals of one species an env. can suppor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lobal Warming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ontinuous heating of the planet from the build up of CO</a:t>
            </a:r>
            <a:r>
              <a:rPr b="1" lang="en-US" sz="40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in the atmospher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2:30:08Z</dcterms:created>
  <dc:creator>Harnett Central High School</dc:creator>
  <dc:description/>
  <dc:language>en-US</dc:language>
  <cp:lastModifiedBy>Office 2004 Test Drive User</cp:lastModifiedBy>
  <dcterms:modified xsi:type="dcterms:W3CDTF">2009-01-14T13:20:20Z</dcterms:modified>
  <cp:revision>16</cp:revision>
  <dc:subject/>
  <dc:title>E.O.C Numbers</dc:title>
</cp:coreProperties>
</file>